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ct" ContentType="image/x-pict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E74-10A9-4179-8462-88B802DF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94B-A1BF-4837-AC9E-D42777CA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B53-7B2C-4D38-A895-27759351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7C9-E1BC-48B0-903F-D59150CF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BF5-A371-472B-8052-B27E8481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E12-5460-45F9-9AF6-5C29E147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A55-294C-460B-BA40-284E0062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441-87E6-476F-AAFE-B3C13735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738-0CB2-4DFC-BBC7-E4F104AD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737-E6F0-4F6D-A746-9052A342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A77-0B03-4A46-BF6C-692447BD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1A3-A7AD-4480-BEE6-B17C6C0F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6C6AC-B155-4CC0-B64F-7F59F5924C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329F4-B0B2-4D62-A63B-F61A23934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arly_leaf_damage2.jpg"/>
          <p:cNvPicPr/>
          <p:nvPr/>
        </p:nvPicPr>
        <p:blipFill>
          <a:blip r:embed="rId1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  <a:ea typeface="Marker Felt"/>
              </a:rPr>
              <a:t>Integrated Pest Management (IP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181480" y="52578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rker Felt"/>
                <a:ea typeface="Marker Felt"/>
              </a:rPr>
              <a:t>By: Carolyn S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rker Felt"/>
                <a:ea typeface="Marker Fel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rker Felt"/>
                <a:ea typeface="Marker Felt"/>
              </a:rPr>
              <a:t>pd.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pest management.gif"/>
          <p:cNvPicPr/>
          <p:nvPr/>
        </p:nvPicPr>
        <p:blipFill>
          <a:blip r:embed="rId1"/>
          <a:stretch/>
        </p:blipFill>
        <p:spPr>
          <a:xfrm>
            <a:off x="4724280" y="2201760"/>
            <a:ext cx="4552920" cy="4656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o… </a:t>
            </a:r>
            <a:r>
              <a:rPr b="0" i="1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What Is IP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An effective, eco-friendly way to control the pest population with the least possible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Life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Interaction with the               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Fantastic</a:t>
            </a:r>
            <a:r>
              <a:rPr b="1" lang="en-US" sz="40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, but where can it be us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Agricultural and non-agricultural sett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House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Gar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Work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14400" y="4572000"/>
            <a:ext cx="1865160" cy="158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42244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0" y="4780080"/>
            <a:ext cx="1981080" cy="207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4"/>
          <a:stretch/>
        </p:blipFill>
        <p:spPr>
          <a:xfrm>
            <a:off x="3352680" y="4057560"/>
            <a:ext cx="26751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ABCO_Pest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neva"/>
                <a:ea typeface="Geneva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2" descr=""/>
          <p:cNvPicPr/>
          <p:nvPr/>
        </p:nvPicPr>
        <p:blipFill>
          <a:blip r:embed="rId2"/>
          <a:stretch/>
        </p:blipFill>
        <p:spPr>
          <a:xfrm>
            <a:off x="225360" y="1292400"/>
            <a:ext cx="82360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lady bu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Papyrus"/>
                <a:ea typeface="Papyrus"/>
              </a:rPr>
              <a:t>Examples, Examples,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Papyrus"/>
                <a:ea typeface="Papyrus"/>
              </a:rPr>
              <a:t>Beneficial ins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Lady b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Praying Man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Mason B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Papyrus"/>
                <a:ea typeface="Papyrus"/>
              </a:rPr>
              <a:t>Bad ins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Fruit w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Mi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Horse f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 </a:t>
            </a:r>
            <a:r>
              <a:rPr b="0" lang="en-US" sz="2800" spc="-1" strike="noStrike">
                <a:solidFill>
                  <a:srgbClr val="eeece1"/>
                </a:solidFill>
                <a:latin typeface="Papyrus"/>
                <a:ea typeface="Papyrus"/>
              </a:rPr>
              <a:t>Fl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  <a:ea typeface="Comic Sans MS"/>
              </a:rPr>
              <a:t>Advantag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ased yield with less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tter eco-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rganic Produ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ttle skill, equip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isk, and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think-positive.jpg"/>
          <p:cNvPicPr/>
          <p:nvPr/>
        </p:nvPicPr>
        <p:blipFill>
          <a:blip r:embed="rId1"/>
          <a:stretch/>
        </p:blipFill>
        <p:spPr>
          <a:xfrm>
            <a:off x="4572000" y="32004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al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tr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disadvantages.jpg"/>
          <p:cNvPicPr/>
          <p:nvPr/>
        </p:nvPicPr>
        <p:blipFill>
          <a:blip r:embed="rId1"/>
          <a:stretch/>
        </p:blipFill>
        <p:spPr>
          <a:xfrm>
            <a:off x="5715000" y="160020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Questions.jpg"/>
          <p:cNvPicPr/>
          <p:nvPr/>
        </p:nvPicPr>
        <p:blipFill>
          <a:blip r:embed="rId1"/>
          <a:stretch/>
        </p:blipFill>
        <p:spPr>
          <a:xfrm>
            <a:off x="6267600" y="302256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  <a:ea typeface="Stenci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fao.org/sd/teca/tools/lst/LSTP5_en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cionline.org/index.php/Integrated_Pest_Control#Methods_and_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team.ard.usda.gov/ipm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22:15:25Z</dcterms:created>
  <dc:creator>Carolyn Sears</dc:creator>
  <dc:description/>
  <dc:language>en-US</dc:language>
  <cp:lastModifiedBy>Carolyn Sears</cp:lastModifiedBy>
  <dcterms:modified xsi:type="dcterms:W3CDTF">2009-03-06T01:11:26Z</dcterms:modified>
  <cp:revision>4</cp:revision>
  <dc:subject/>
  <dc:title>Integrated Pest Management (IPM)</dc:title>
</cp:coreProperties>
</file>